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680A-96BD-44A8-A3E3-BF21C885D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AB0F-2048-41FC-92DA-DFF23D037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EA3FC8-4752-4508-BD24-35FB6FA5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4666B5-07ED-4663-A116-3E347047F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DDA5BD-A15D-4168-A5AF-BEE575477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B0FBF6-64C9-4AD3-A1B5-D03F2F71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B6B220-055C-4D8F-A45F-C52EA100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290998-8CA7-4C7E-AB1F-45905B42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E1D1C6-7365-4CFF-A0F6-256E8AE4D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D60880-2220-46F2-AFD3-DC1360C86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A73544-0CFD-4288-A989-77DD3E3DC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D52851-2B2F-4A1B-A4A1-F29BE0F28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00E9-1AF4-4038-8C8B-EE05717B6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E8414C-AE8D-414C-B3B8-0051C165C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0C79DE-DF9A-4F4B-A709-9FBFC51FC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E444FF-E86F-4D9B-B1E2-36107574E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88A4AE-0B78-4226-A402-9C74F785C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9961B6-FD12-4388-82AB-DBAE43EE1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DFD688-A3C4-465D-86D3-57396309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9DB98B-E074-4F99-AFD9-31B443DB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AC39B8-D983-446D-B934-578D1000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905139-B113-41AE-B401-FE4415EB2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21DC62-4B55-47AA-BD85-105A8B7A9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EB62-3A75-494C-90A3-61CA4194F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831250-F6EB-4648-90C6-1EBE2C2C2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3FAC09-E3F3-47B3-9018-7A5AA1AB7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B61ABB-913B-4A35-AF01-CBAD17AE6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23A8C4-0738-4B02-B889-F27C03005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67948C-504E-4D87-A776-61C5A3FD3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72C149-4A87-4EA6-90DE-B87B344E3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F5BAD7-45BA-412A-A999-E9DDA3892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FE505C-4A5D-4D70-91A4-24365B05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591486-7DBA-439B-B442-A8AC3305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040F97-1514-43B1-AABF-43589F17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FE9D4-1A9E-4EC6-B808-E25A6BCCC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68AFC4-DF18-4830-A410-E451F676E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2B13B6-C986-49A6-AD42-69123DE87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72595C-6F5B-4CE6-85DE-2BAA90A9A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359672-5AD4-4C4E-96FF-2C1AE67BF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593B71-F5DA-4FBA-B45E-484E34074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81D0A3-CABD-4FDD-95A4-6851305C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83DD06-D708-45D3-8B1E-4BF26D1F5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3E40C3-B6FD-4E1C-9351-48DAF900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59C873-044D-48B3-8DA1-64983B6C4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A79C4A-9E2D-4714-A0C7-F5C8F6B9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657C0-A254-4178-8708-9124E7130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11B4EB-A07A-4EDF-A716-06AB9B0A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47AF17-44F9-44F7-8A8C-5436E6A2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2AC602-696C-4704-83ED-AA7C58D5E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0079DA-FB2B-4A32-B2FF-A9C20DAB0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697606-49EB-4473-9331-B942C58D1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57B80-C0B8-4171-8F8B-7A20A2E04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50B64-3E40-4D46-AE4D-29E155933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04C33-DEB7-4959-8E71-2FB064AB7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9BA8C-39DE-44F1-913C-5C802D10C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B191B-EEC5-4B39-B264-AE1B606E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16D7-DB23-4308-B27B-24B6C3326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B51FF-879F-4D47-97CE-AD865279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0D1ED-90ED-4C4F-86EC-0FAA3407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6B214-5737-4564-8FE6-3AAF53368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6B3A7-C33A-44EF-A028-7E035FAE8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92954-3757-4512-BBCB-23FD43E54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241A2-B06F-49A1-945E-63B932AF5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EFE59-8F47-4211-9637-153514AA0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DE4EC-7D94-4D71-A2C5-2CD4FE995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99A3A-1979-4728-AC5B-0F332D4EE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87162-A2D9-4878-8811-456E844E6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F2B5-5AAF-473D-B02D-052CFC2FC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7ACC8-E7E4-430F-86D4-142CC9B5D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82891-CBEB-4C71-B88D-BB63BDC0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E8A6A-7CC0-4614-BC8C-7A7B76F7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DD4C7-CDF6-405D-B5FE-7B536493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D1003-802B-401B-A163-1E0D26D42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67995-DBD7-4A21-869F-550C97A82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D75B3-0C91-4CBE-8E45-24A602E78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A6175-3D2F-4F75-9350-40CA6BEFA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0D7CE-5C45-4E0D-AE2A-134EBA958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E1288-72C0-4EF4-9455-EB60398F2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359C-8FFB-45E4-8EE4-28D7DA950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13BF6-B4A7-4410-8EB3-726093F3D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FE90A-0BD5-40AC-87B2-B2E8CDAAC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DBA40-803C-43CF-8793-7C9B73746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94C40-E141-47CF-A8B5-24BC0175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88573-69C5-4F22-A1C0-0C956BE6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3FB80-DDA3-4891-80E7-01E10590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39A7C-EF4A-4489-A00D-BA80D66A6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08DE7-4A7F-42EC-9EB5-9D9BECA96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1ECA8-16F6-435D-866A-E7E125771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B6DBE-7CA3-49D2-A6ED-3BF4C8877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66D5-59D2-487A-9496-FB46D0511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C64E0-7C1A-4AB3-A62D-38D57BBBC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1B1F2-DB30-46AD-90A2-0F85DE059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5944B-8C27-4948-8BA3-BB50FDF16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F9187-4485-49FD-89DF-633135608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D1F02-EFE3-4DFD-B67B-11DC44729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2BCA0-A772-45D0-9049-97DB7B0D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43730-DB84-415E-BB0A-292201B6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4898A-FF22-49E3-88F8-F9A8BE2B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A7197-8997-451E-9A11-B5CFFF41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C8CB0-E086-4973-9DB3-751767F2C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D92E-6819-4180-B83F-AEF9BF1C9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AC621-6192-417E-92F8-061D39F61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EFD219-EF78-4DE6-85FA-C3FF30723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7B561-0327-42FB-ABD9-25E644BD4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F2606-9BD4-4D58-8E1C-947B51F14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18764C-AD9E-4C54-ABF3-8E002BA07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473CF-EE10-47AA-8A21-AD250956F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56994-29E4-41F7-B615-A43BC192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BA93D-3B9E-46A0-A8DB-FD6BB7FE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FFB5B-8423-4803-B787-887F4111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F00DE-A3BF-4CA6-BC03-6DA3FBF4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DAB1-DAB3-40DF-A005-B8A9BB01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DB8D2-1221-4917-B7BC-C1FACB43E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F09C3E-06D2-4A00-A03C-DD57D73A1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220C02-E767-49E9-A2EC-51584E374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50C41-4669-4EF9-BC65-436B45F3F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D1C13-AA71-434E-8AA1-6190C78BB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8EF0C6-5DD2-4972-97CD-ABAD9140F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7A3080-68B6-46C5-BDA8-EA17FBC8C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B2708-9A47-41B4-AF86-973C845DC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D01DF-B667-4475-8164-621546213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B1C45-3395-4E36-9B3F-3F2F19AF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E3D3-32B8-4EE5-9A8F-A48F91A0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CD8FA8-0D46-48CE-84E3-FA0966B1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25881B-70A7-4217-AD30-9D6EA50D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6E2B0-D611-4327-8294-7F9705EF9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AFBCA-CADA-428B-B1E2-C6401BB6C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ECD36-1A75-464D-B451-5115144BE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1AD079-9264-46F2-B9B5-C2C47E691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E8AE1C-5F73-4FB7-A6A1-C6FB1FE22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1DB71A-88E0-4829-BBB6-D3D0BA9E8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E6A055-94DD-4C48-A09F-5E669C936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D68508-8A10-4FB9-B6EB-7ECC00142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071A-183B-420E-B2A6-5FE738DF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7CA9BA-7473-45CC-AC17-09D1FE7F9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D39CFA-AE77-47A2-8DD5-414391DE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7B0118-8C93-406A-86FB-6A68147D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34C972-D146-4A75-B72F-DACDC5AA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3327B3-CD8B-44A9-A295-42522C8D0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D8808B-1FF0-4C51-944B-9552DD777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5F1500-B21C-4EF9-8E51-A6249F161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68C73A-CC5A-4CD2-B184-AB7449D4B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AA1C88-6E59-485F-A3E1-ACA5769F0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1EE5FD-B37A-4395-94B9-E5C6042FF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DBE0C-80A5-4107-9845-18B6CB5DA08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ftr" idx="2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37DEB-38CB-416A-81F4-AC5DCC84D4E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DC050-FD53-4E8A-AD96-2B240CE929F0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56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5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66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0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82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83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486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87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8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89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97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CE955-F5C7-4F22-951A-FD84D428290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40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3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44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9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550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3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554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9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9D07D-34E5-42E2-BDCB-9AA92AE8031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78AA0-8BD5-413C-B93D-EA803A26A2D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9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2EDE1-D346-4682-AECB-297EAFD960E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14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866CA-65C4-4DE6-B064-808C0D2BF1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191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dt" idx="16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ftr" idx="17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sldNum" idx="18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C738F-BEA4-4212-9ACB-9223EA550D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273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42B3C-AE48-4124-9B46-4EF94082A0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318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dt" idx="22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ftr" idx="23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087DC-B87B-42FB-B38C-4B5B84E2F7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1181D-7432-4B4E-9F12-8D92293996F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3;&#1077;&#1088;&#1094;" TargetMode="External"/><Relationship Id="rId2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64;&#1091;&#1084;&#1086;&#1074;&#1086;&#1077;_&#1086;&#1087;&#1100;&#1103;&#1085;&#1077;&#1085;&#1080;&#1077;&amp;action=edit&amp;redlink=1" TargetMode="External"/><Relationship Id="rId2" Type="http://schemas.openxmlformats.org/officeDocument/2006/relationships/hyperlink" Target="http://ru.wikipedia.org/wiki/&#1040;&#1083;&#1082;&#1086;&#1075;&#1086;&#1083;&#1100;&#1085;&#1086;&#1077;_&#1086;&#1087;&#1100;&#1103;&#1085;&#1077;&#1085;&#1080;&#1077;" TargetMode="External"/><Relationship Id="rId3" Type="http://schemas.openxmlformats.org/officeDocument/2006/relationships/hyperlink" Target="http://ru.wikipedia.org/w/index.php?title=&#1053;&#1072;&#1088;&#1082;&#1086;&#1090;&#1080;&#1095;&#1077;&#1089;&#1082;&#1086;&#1077;_&#1086;&#1087;&#1100;&#1103;&#1085;&#1077;&#1085;&#1080;&#1077;&amp;action=edit&amp;redlink=1" TargetMode="External"/><Relationship Id="rId4" Type="http://schemas.openxmlformats.org/officeDocument/2006/relationships/slideLayout" Target="../slideLayouts/slideLayout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Как влияет шум на здоровье людей?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Бестелесная Виктори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Ученица 11 «А» класс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Сыктывкар,2009г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Цель данного исследования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9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Monotype Corsiva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Monotype Corsiva"/>
              </a:rPr>
              <a:t>   </a:t>
            </a:r>
            <a:r>
              <a:rPr b="0" lang="en-US" sz="4400" spc="-1" strike="noStrike">
                <a:solidFill>
                  <a:srgbClr val="999900"/>
                </a:solidFill>
                <a:latin typeface="Monotype Corsiva"/>
              </a:rPr>
              <a:t>Выяснить как влияет шумовое загрязнение на живой организм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6877080" y="1989000"/>
            <a:ext cx="1546200" cy="243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Задач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знакомиться с последствиями шумового загрязн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ассмотреть меры борьбы с данным видом загрязн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78920" y="476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Наибольшее раздражение вызывает шум в диапазоне частот -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2422080" y="2652480"/>
            <a:ext cx="450684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000÷5000 </a:t>
            </a:r>
            <a:r>
              <a:rPr b="0" lang="en-US" sz="44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Гц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При шуме на уровне более 110 дБ у человека возникает </a:t>
            </a:r>
            <a:r>
              <a:rPr b="0" lang="en-US" sz="2900" spc="-1" strike="noStrike" u="sng">
                <a:solidFill>
                  <a:srgbClr val="99cc00"/>
                </a:solidFill>
                <a:uFillTx/>
                <a:latin typeface="Arial Black"/>
                <a:hlinkClick r:id="rId1"/>
              </a:rPr>
              <a:t>шумовое опьянение</a:t>
            </a:r>
            <a:r>
              <a:rPr b="0" lang="en-US" sz="2900" spc="-1" strike="noStrike" u="sng">
                <a:solidFill>
                  <a:srgbClr val="336666"/>
                </a:solidFill>
                <a:uFillTx/>
                <a:latin typeface="Arial Black"/>
              </a:rPr>
              <a:t>, по субъективным ощущениям аналогичное </a:t>
            </a:r>
            <a:r>
              <a:rPr b="0" lang="en-US" sz="2900" spc="-1" strike="noStrike" u="sng">
                <a:solidFill>
                  <a:srgbClr val="99cc00"/>
                </a:solidFill>
                <a:uFillTx/>
                <a:latin typeface="Arial Black"/>
                <a:hlinkClick r:id="rId2"/>
              </a:rPr>
              <a:t>алкогольному</a:t>
            </a:r>
            <a:r>
              <a:rPr b="0" lang="en-US" sz="2900" spc="-1" strike="noStrike" u="sng">
                <a:solidFill>
                  <a:srgbClr val="336666"/>
                </a:solidFill>
                <a:uFillTx/>
                <a:latin typeface="Arial Black"/>
              </a:rPr>
              <a:t> или </a:t>
            </a:r>
            <a:r>
              <a:rPr b="0" lang="en-US" sz="2900" spc="-1" strike="noStrike" u="sng">
                <a:solidFill>
                  <a:srgbClr val="99cc00"/>
                </a:solidFill>
                <a:uFillTx/>
                <a:latin typeface="Arial Black"/>
                <a:hlinkClick r:id="rId3"/>
              </a:rPr>
              <a:t>наркотическому</a:t>
            </a:r>
            <a:r>
              <a:rPr b="0" lang="en-US" sz="2900" spc="-1" strike="noStrike" u="sng">
                <a:solidFill>
                  <a:srgbClr val="336666"/>
                </a:solidFill>
                <a:uFillTx/>
                <a:latin typeface="Arial Black"/>
              </a:rPr>
              <a:t>.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39280" y="227628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При шуме на уровне 145 дБ у человека происходит разрыв барабанных перепонок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Уменьшение и контроль за шумом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 настоящее время разработано много методик, позволяющих уменьшить или устранить некоторые шумы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Шумовое загрязнение от какого-либо объекта можно до некоторой степени уменьшить, если на этапе разработки проекта этого объекта смоделировать с учётом различных внешних условий (например, топология и погодные условия местности) характер шумов, которые будут возникать и затем отыскать пути их устранения или хотя бы уменьшения. В настоящее время этот способ стал гораздо проще и доступнее за счёт развития электронновычислительной техники. Это наиболее дешёвый и рациональный способ снижения шумов, использующийся, например, при строительстве железных дорог в городских районах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 некоторых случаях рациональнее на данный момент бороться не с причиной, а со следствием. Например, проблему шумового загрязнения жилых помещений можно значительно уменьшить за счёт их звукоизоляции (установка шумонепроницаемых окон и т.п.)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Литератур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http://ru.wikipedia.org/wiki/%D0%A8%D1%83%D0%BC%D0%BE%D0%B2%D0%BE%D0%B5_%D0%B7%D0%B0%D0%B3%D1%80%D1%8F%D0%B7%D0%BD%D0%B5%D0%BD%D0%B8%D0%B5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2T08:06:09Z</dcterms:created>
  <dc:creator>User</dc:creator>
  <dc:description/>
  <dc:language>en-US</dc:language>
  <cp:lastModifiedBy>User</cp:lastModifiedBy>
  <dcterms:modified xsi:type="dcterms:W3CDTF">2009-11-23T12:38:11Z</dcterms:modified>
  <cp:revision>3</cp:revision>
  <dc:subject/>
  <dc:title> Как влияет шум на здоровье людей?</dc:title>
</cp:coreProperties>
</file>